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7A47-9721-4D8B-95BF-24263F270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7A4B-6DB6-4CFC-9C63-20B4128D8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6334-5FC5-42AF-A7C2-0FCECE164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ECE0-82E2-4177-8EE6-5A88FB569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B270-41D1-4CC1-ADF1-DD015A0C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75F4-511E-4F63-9939-342B6BCCE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0EA0-F4AC-463E-9023-C205C0DE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3995-5C98-46B6-AB91-72C4BFBEA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832E-CD85-4FDE-9967-72231201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4739-59AD-476B-BEB6-E267C3FE9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E8F7-A6A7-4AB9-8203-C6A621E22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E6AC-5FEA-4719-82CB-7171BD615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DEED-6809-44F5-9C26-E99A194BB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CC1-4CE2-463E-905D-38C660337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D997-49C2-4AF2-B3D3-1CDD7E221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0B25-EC80-461C-90F0-7F7EE9E0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1DC2-41A1-4E07-AF8E-018EDFA9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070B-3427-458A-8C2E-B166A210D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C4BF-E15A-496E-B02C-7F16E9EB9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1E85-7916-41A5-969E-0BC13932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1612-1D25-4835-A988-142341DBE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AF45-E6B4-45C5-A2DA-69D617DC1E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A8CE-180C-440C-8083-DB52569E451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4BB2-59D4-4B7A-8CCC-C144C731F9A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368A-1CFD-4E09-A8EB-D6E0F542A56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BEC3-F564-486A-BD0A-613CA9D64F3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DECD-250B-4553-A18D-756FA3497C1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A2EE-6C57-4DBB-91AC-768B541B534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22FC-7D7D-4A16-BB1D-2566439BCC8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6382-313C-4A19-9D5C-E29A4D4EDA6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F9CA-E3D0-4B53-8B5E-007C0EC5AB1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7C4F-5DB3-4D00-97D0-6749D4E1C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6006-1ACF-4B82-A2B8-7C2155C37C0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7F0D-09A1-41E9-8014-9226D7857A4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00FA-5D85-45CA-A494-D9B67FD1FB4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5B68-08C8-489D-AE7E-0643FC30E5F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FBD7-01BD-47D9-90BF-8497BEB4112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B7A4E-10FF-4032-A215-92B4AB84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D0A8C-A18A-40B2-81F9-3CF15C85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E07D6-D23D-4E88-BC39-0A16E507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60C48-4BBB-4931-AFA2-2A91A9DD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77975-6D70-4AE8-95D7-EEA0397A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9137-1AE5-4EC2-BD2D-966307D280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D7B5C-173A-4A85-9251-9E80E8A0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7A862F-FFE4-4E98-84EF-98A76D38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EFFE39-1028-4E07-8C80-40B43D0F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9FC368-7472-4585-B4CB-EC6B606D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0A6674-47D5-4F92-8080-14F4C46A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B68FB9-4D62-4482-BAE1-1704B9B4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8E044-7A20-4BE0-86CB-B57835A5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2D0B0-2E8A-43E8-84DD-1253587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CFFD66-235B-4E29-9CBB-3EC55600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C4F1A3-304C-4D6C-8F8B-EFF834FA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855A9-19D4-457D-8C13-67B1D339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FC9BF6-8FB0-46C2-BF21-B4370FBF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7D1DED-D285-401E-B53B-0F362D1B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E3BC12-BCBE-43F6-8EE1-02DF81F8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4E3E39-84B8-4A85-95B1-6DB5F54C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F2102C-DDF3-4B58-A211-2DD39D5C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A98A6-2C5A-49FD-BAA5-4776B27F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038629-5F4D-4FE5-96E3-04BD573F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3D315F-C28F-4EC5-B7BB-39C72369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D2FEE-D8CB-4D09-B6A5-E0D46033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0966D1-1581-457E-BA1B-0A2CC2BF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75DE7-F198-495A-A7C3-7C324F1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C1085-79C8-458C-9DFD-E7099B10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84354B-4950-4366-811D-9B5697F4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2A4AF9-9EE9-43FE-8122-BE71C387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C3783C-8D26-405E-AC61-6933FD2B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0ED0E6-C9FF-486A-A32F-B43E9DA4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A49ED-DE64-435A-8C8D-3EE9CBD9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29E95-3FD6-4AB2-81F0-14C04C26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B6BB6-BDEB-4CD7-978F-C62E207F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FBF46-5DD8-4FB7-97F1-C933EE04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E1C19-B515-4155-9480-66598EC2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E277B-BE1F-415A-BD6A-3674087A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641FC-D1CC-4D63-8C66-CB1F794B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2079-2069-4E30-98A9-836B44A4D7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A1A3E-CC4B-4D6A-A3BD-FB485F1F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9458C-85CA-4C01-9FED-81D2572F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CBC75-A324-414A-A509-2C2994B1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E2FFA-9089-4614-B18A-42263E23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D60AF-D142-4D3C-BF96-D73063FA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A5FF5-DAF7-48B1-83AD-15C5E33D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D43DF-42CC-49B8-9FC2-934A58F6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E34B2-C1DE-44C0-BCB7-2980D416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C67BF-681E-45B5-8F80-21397FE9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F287C-E31F-4E28-8DC7-B1262627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34B7-C4D9-43A6-B97C-91839C8BCCB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2C9EA-B523-4BA2-B2D0-3CE7FE17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31BA6-8E04-4B5C-9D37-1EAFB956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DB7F7-BD90-4F21-8E89-924712F7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1080B-48D5-4F68-A3BA-C1DD2BFA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F4087-BBF0-40B2-9578-53FD23A6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D50424-60E9-4583-BBDA-C04890A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31FEF-B0BF-42EF-AF42-30683D0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778AF-51B0-4835-A2DF-3F4F29D3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350D3-1ACF-4A01-833F-5FB36B94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B88F7-976B-4573-9D6F-A72323B7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F3FC-CACF-4105-9135-E60F6A8F5E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898A3-F7A0-4F69-9FA2-DBB7E3E2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127CB-FE65-43A5-813C-9186916E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A3702-6740-4103-9863-8E35ACE8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544F7-D044-43D5-A91E-1CD0DE8B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C16A4-23E0-40AA-985D-26F99236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769A3-674E-4CF7-94E5-1EE3850C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EFF71-0567-4480-BB40-0EF0DD77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30B86-A9B8-4321-8383-DA073A73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62F21-CE55-44E3-B972-7D3E03D4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22598-E8C1-46C7-B433-9313AFA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026C-3666-499D-8B6D-C1A0ABEC91F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41A44-98E8-412D-9067-B2B6198F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30851B-CAFC-4991-A98F-63FC5E69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539AE-5E21-4522-8641-8E941895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643FE-30EB-416B-8E1E-BB3389F3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C74D2-1840-4128-9192-79BEBE66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590B1E-1894-4760-AFCB-4E677394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DF330-B486-46B9-B128-CECA6AEE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13E2F-F591-42D1-B5E2-E768546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3EF03-EB64-49BA-9063-76D21A07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3F10D-73CA-4426-8E61-468991C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293A-9F7D-4C81-8D89-621AAC3999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95E47-B597-4073-B92B-8A5D2A36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240F1-25F4-458B-A27D-C863925B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9C3D4-7CFC-4598-B5C8-FBC9E067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6F43D-762C-4FFD-B8D7-39D15709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7EB850-DBD4-48F5-A0C4-95268C5A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1E0E8-DD65-4492-AE92-B47D5662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A1B41-4CB7-47C0-B6D6-C1C8076E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17AA8-D8D5-428F-B9E6-0A9FAD27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97729-9CDF-4AAF-A739-AA321859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A43FB-A686-484B-9E61-DE89C482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890B-2E51-461F-8F3A-EB129180C33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D9E07-F14B-4903-9EB4-BA0FC291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C2EE6-DAA1-48FE-B355-8CC6513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33987-E1A8-4E2A-9D90-E3E2B4E7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F1EA66-3B28-4A31-9E67-E6D89423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40A20-E5C9-4634-AAF7-DACE3D4B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36B8D-6F35-424C-95BC-9DEBD8D4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A7469-E76B-4831-A2DA-2920E06B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67B3-EF74-423F-8A82-FE9F9EECBA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6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0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3B6E-6DAD-4BF2-B9BC-41FCBFCD65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59FB-75BB-4CD9-8150-402470A9E4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6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1A35-E1C5-4427-B4AA-EA0D943098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4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E74-4528-4C64-9DEA-5D816CBEB3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99D4-FE24-4FEA-840A-AE63953186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0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1AAE-10B8-40C6-80DB-D41BBEF7A2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56C9-3070-47A6-891E-2004E1E3D1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43CD-9AEA-4AB2-B0B1-01AF43959A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9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77BB-8F08-4232-9933-0C9B01E473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9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Rectangle 8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656920" cy="11700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3" descr=""/>
          <p:cNvPicPr/>
          <p:nvPr/>
        </p:nvPicPr>
        <p:blipFill>
          <a:blip r:embed="rId2"/>
          <a:stretch/>
        </p:blipFill>
        <p:spPr>
          <a:xfrm>
            <a:off x="1465200" y="1676520"/>
            <a:ext cx="6213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Rectangle 2" descr=""/>
          <p:cNvPicPr/>
          <p:nvPr/>
        </p:nvPicPr>
        <p:blipFill>
          <a:blip r:embed="rId1"/>
          <a:stretch/>
        </p:blipFill>
        <p:spPr>
          <a:xfrm>
            <a:off x="208080" y="-152280"/>
            <a:ext cx="8723160" cy="187776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 txBox="1"/>
          <p:nvPr/>
        </p:nvSpPr>
        <p:spPr>
          <a:xfrm>
            <a:off x="533160" y="20570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have a 401(k) plan, you can set up Payroll Items to track the employee contributions (salary deferral) to the pl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8" name="Picture 4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4786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ayroll Setup Interview will walk you through creating items to track and pay vacation or sick p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 have a “Paid Time Off (PTO)” policy instead of separate sick and vacation time you can use either Sick or Vacation time to keep track of PT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you have set up your Payroll Items, you can set up each employee’s payroll reco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43" name="Picture 4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4457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6"/>
          <p:cNvSpPr/>
          <p:nvPr/>
        </p:nvSpPr>
        <p:spPr>
          <a:xfrm>
            <a:off x="289872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Picture 4" descr=""/>
          <p:cNvPicPr/>
          <p:nvPr/>
        </p:nvPicPr>
        <p:blipFill>
          <a:blip r:embed="rId2"/>
          <a:stretch/>
        </p:blipFill>
        <p:spPr>
          <a:xfrm>
            <a:off x="1351080" y="1676520"/>
            <a:ext cx="6441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Rectangle 2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448840" cy="1573560"/>
          </a:xfrm>
          <a:prstGeom prst="rect">
            <a:avLst/>
          </a:prstGeom>
          <a:ln w="0">
            <a:noFill/>
          </a:ln>
        </p:spPr>
      </p:pic>
      <p:sp>
        <p:nvSpPr>
          <p:cNvPr id="1248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7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set up vendors for payroll liabilities, continue with the payroll Setup Intervie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49" name="Picture 4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2296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0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2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 are setting up your own payroll in the middle of the fiscal year, you’ll need to enter the year-to-date payroll information for each of your employee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befo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ntering your first paychec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53" name=""/>
          <p:cNvSpPr txBox="1"/>
          <p:nvPr/>
        </p:nvSpPr>
        <p:spPr>
          <a:xfrm>
            <a:off x="457200" y="17524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ault settings for each new employ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4" name="Picture 4" descr=""/>
          <p:cNvPicPr/>
          <p:nvPr/>
        </p:nvPicPr>
        <p:blipFill>
          <a:blip r:embed="rId2"/>
          <a:stretch/>
        </p:blipFill>
        <p:spPr>
          <a:xfrm>
            <a:off x="1409760" y="2743200"/>
            <a:ext cx="6324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5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12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view all employees, including deactivated employees, display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mployee lis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d click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clude inact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ox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7" name="Picture 4" descr="C:\Users\DPEMBR~1\AppData\Local\Temp\SNAGHTML176df9c.PNG"/>
          <p:cNvPicPr/>
          <p:nvPr/>
        </p:nvPicPr>
        <p:blipFill>
          <a:blip r:embed="rId2"/>
          <a:stretch/>
        </p:blipFill>
        <p:spPr>
          <a:xfrm>
            <a:off x="744480" y="3733920"/>
            <a:ext cx="76550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t up payroll accounts in the Chart of Accou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nderstand Payroll I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Payroll Setup Interview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to add payroll i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se the Payroll Setup Interview to add employee recor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t up Employee Defaul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un Employee Repor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t up payroll accounts in the Chart of Accou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nderstand Payroll I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Payroll Setup Interview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to add payroll i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se the Payroll Setup Interview to add employee recor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t up Employee Defaul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un Employee Repor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 payroll choic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1608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ual Payrol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1608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sic Payrol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1608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hanced Payrol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1608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line Payrol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16080" indent="-53352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ssisted Payrol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Gather information about each of your employe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ctivate the Payroll func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et up payroll accoun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nable your QuickBooks file for payroll processing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Use the Payroll Setup Interview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dd additional payroll items directly into Payroll Item Lis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dit payroll items to modify the vendor information and the way it affects the Chart of Accoun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f setting up mid-year, enter year-to-date information for each employee and enter year-to-date liability paymen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Verify payroll item setup, employee setup, and the vendor lis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roof your setup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Rectangle 2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sp>
        <p:nvSpPr>
          <p:cNvPr id="122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roll Liability Accoun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yroll Expense Accoun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22" name="Picture 5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429080" cy="165744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6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45338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25" name="Rectangle 10"/>
          <p:cNvSpPr/>
          <p:nvPr/>
        </p:nvSpPr>
        <p:spPr>
          <a:xfrm>
            <a:off x="2743200" y="459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6" name="Picture 4" descr=""/>
          <p:cNvPicPr/>
          <p:nvPr/>
        </p:nvPicPr>
        <p:blipFill>
          <a:blip r:embed="rId2"/>
          <a:stretch/>
        </p:blipFill>
        <p:spPr>
          <a:xfrm>
            <a:off x="531720" y="1752480"/>
            <a:ext cx="808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nterview is optional, but very helpful and works even if you have existing payro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ing the Payroll Setup Inter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mployees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nu, select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ayroll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etu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230" name="Rectangle 11"/>
          <p:cNvSpPr/>
          <p:nvPr/>
        </p:nvSpPr>
        <p:spPr>
          <a:xfrm>
            <a:off x="2565360" y="42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Picture 4" descr=""/>
          <p:cNvPicPr/>
          <p:nvPr/>
        </p:nvPicPr>
        <p:blipFill>
          <a:blip r:embed="rId2"/>
          <a:stretch/>
        </p:blipFill>
        <p:spPr>
          <a:xfrm>
            <a:off x="1382760" y="1714680"/>
            <a:ext cx="63784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ree ways to allocate costs between the company and the employe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mpany could pay the entire expen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mpany and employee could share the expen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266760">
              <a:spcBef>
                <a:spcPts val="326"/>
              </a:spcBef>
              <a:buClr>
                <a:srgbClr val="94c600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employee could pay the entire expen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4040" indent="6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the costs are shared between the company and the employees, or if the employees pay for the entire cost via payroll deductions, use a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Deduction Item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o track the deduction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8:47:32Z</dcterms:created>
  <dc:creator>The Sleeter Group, Inc.</dc:creator>
  <dc:description/>
  <dc:language>en-US</dc:language>
  <cp:lastModifiedBy>Deborah Pembrook</cp:lastModifiedBy>
  <dcterms:modified xsi:type="dcterms:W3CDTF">2011-12-09T05:37:53Z</dcterms:modified>
  <cp:revision>171</cp:revision>
  <dc:subject/>
  <dc:title>Chapter 5 Payroll Setup </dc:title>
</cp:coreProperties>
</file>